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2BDC5-2A25-448D-945C-39BBEFA7E9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4EB5B-99EF-4317-9FD9-3FD1C5D64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08FD8-B491-45B7-B28D-382714308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13287-1A67-45F3-9AA5-9424EC410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85840" indent="0"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28584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1B619-3708-4597-B19D-72D996D10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B26ED-DAC4-4206-AF15-D5478CEB10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FDE9E-C965-493D-9FF7-801D389B3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B525B-A951-4EF1-910A-79CDD2F280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1BCC3-F914-45C4-BDA8-4B5A720DE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F11B8-B227-4F5C-ACB5-B2FCC1800DD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3385B-7B6E-4170-A509-A391AC6091B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64875-E463-454E-B82B-3D87BFCCF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22BDF-6449-44A4-A992-935BFF27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6490D-438E-48D0-9FD5-2C930CD1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CFA09-7FCE-429F-A3F0-F3055469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2AE47-70C4-4289-BD9E-A4B45E2D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7478D-CE6C-4BFB-9BDB-9235FB61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DC88E-705D-4EAE-B858-E1C835F9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E384C-03ED-4434-AF63-7EA29A5B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C03AA-530F-4E9C-A447-F68D9692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9A7A4-2C61-4CD8-AC68-25E929D2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31182-C8C4-4962-9679-63910D18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FC7D8-5852-4742-91C8-08035B0F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3829B-CB1E-4FB8-81F1-2DB10FCD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00EC6-AEE6-4171-83A7-2AFD1019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40357-9A71-4B96-9ACA-08D59E7D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7B338-F24D-4B51-BD9E-5C43F9DC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E19C8-80F7-4720-A09A-6EF44E2D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B81FE-338F-424B-AEA6-1A4D4A4C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9A746-7988-464E-9644-1175A0F3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F31D0-1E37-4594-A3ED-9C9603B1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DF45F-75A2-4FD2-9732-41FD3A35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CC0A7-B60B-4594-8625-B70E1831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A3289-0896-44F7-B884-D8979CC8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08DBC-35E3-42E1-A71A-3CE09A9B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EEDEE-D8BB-45C7-915D-DCF042E3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AROLY~1\AppData\Local\Temp\Fashion_Institute_of_Technology_Logo_High_Quality.png"/>
          <p:cNvPicPr/>
          <p:nvPr/>
        </p:nvPicPr>
        <p:blipFill>
          <a:blip r:embed="rId2"/>
          <a:stretch/>
        </p:blipFill>
        <p:spPr>
          <a:xfrm>
            <a:off x="-193680" y="5737320"/>
            <a:ext cx="1401840" cy="112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AROLY~1\AppData\Local\Temp\Fashion_Institute_of_Technology_Logo_High_Quality.png"/>
          <p:cNvPicPr/>
          <p:nvPr/>
        </p:nvPicPr>
        <p:blipFill>
          <a:blip r:embed="rId2"/>
          <a:stretch/>
        </p:blipFill>
        <p:spPr>
          <a:xfrm>
            <a:off x="-141120" y="5881680"/>
            <a:ext cx="1220760" cy="9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CAROLY~1\AppData\Local\Temp\Fashion_Institute_of_Technology_Logo_High_Quality.png"/>
          <p:cNvPicPr/>
          <p:nvPr/>
        </p:nvPicPr>
        <p:blipFill>
          <a:blip r:embed="rId2"/>
          <a:stretch/>
        </p:blipFill>
        <p:spPr>
          <a:xfrm>
            <a:off x="-193680" y="5737320"/>
            <a:ext cx="1401840" cy="1120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pillars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123920" y="64310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CAROLY~1\AppData\Local\Temp\Fashion_Institute_of_Technology_Logo_High_Quality.png"/>
          <p:cNvPicPr/>
          <p:nvPr/>
        </p:nvPicPr>
        <p:blipFill>
          <a:blip r:embed="rId4"/>
          <a:stretch/>
        </p:blipFill>
        <p:spPr>
          <a:xfrm>
            <a:off x="-34920" y="5873760"/>
            <a:ext cx="1158840" cy="927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ftr" idx="1"/>
          </p:nvPr>
        </p:nvSpPr>
        <p:spPr>
          <a:xfrm>
            <a:off x="2058840" y="6356160"/>
            <a:ext cx="63993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Users\CAROLY~1\AppData\Local\Temp\Fashion_Institute_of_Technology_Logo_High_Quality.png"/>
          <p:cNvPicPr/>
          <p:nvPr/>
        </p:nvPicPr>
        <p:blipFill>
          <a:blip r:embed="rId2"/>
          <a:stretch/>
        </p:blipFill>
        <p:spPr>
          <a:xfrm>
            <a:off x="-193680" y="5737320"/>
            <a:ext cx="1401840" cy="1120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ftr" idx="2"/>
          </p:nvPr>
        </p:nvSpPr>
        <p:spPr>
          <a:xfrm>
            <a:off x="2058840" y="6356160"/>
            <a:ext cx="63993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C:\Users\CAROLY~1\AppData\Local\Temp\Fashion_Institute_of_Technology_Logo_High_Quality.png"/>
          <p:cNvPicPr/>
          <p:nvPr/>
        </p:nvPicPr>
        <p:blipFill>
          <a:blip r:embed="rId2"/>
          <a:stretch/>
        </p:blipFill>
        <p:spPr>
          <a:xfrm>
            <a:off x="-193680" y="5737320"/>
            <a:ext cx="1401840" cy="1120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A423C-D190-4EB6-A496-9F550EAD372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C:\Users\CAROLY~1\AppData\Local\Temp\Fashion_Institute_of_Technology_Logo_High_Quality.png"/>
          <p:cNvPicPr/>
          <p:nvPr/>
        </p:nvPicPr>
        <p:blipFill>
          <a:blip r:embed="rId2"/>
          <a:stretch/>
        </p:blipFill>
        <p:spPr>
          <a:xfrm>
            <a:off x="-141120" y="5881680"/>
            <a:ext cx="1220760" cy="9763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1747800" y="3394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CAROLY~1\AppData\Local\Temp\Fashion_Institute_of_Technology_Logo_High_Quality.png"/>
          <p:cNvPicPr/>
          <p:nvPr/>
        </p:nvPicPr>
        <p:blipFill>
          <a:blip r:embed="rId2"/>
          <a:stretch/>
        </p:blipFill>
        <p:spPr>
          <a:xfrm>
            <a:off x="-141120" y="5881680"/>
            <a:ext cx="1220760" cy="976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1135B-93DE-441E-A37F-352B1DCF895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ITC Franklin Gothic Std Bk Cd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3222a"/>
                </a:solidFill>
                <a:latin typeface="ITC Franklin Gothic Std Dm Cp"/>
              </a:rPr>
              <a:t>Click to edit the outline text format</a:t>
            </a: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  <a:p>
            <a:pPr lvl="1" marL="743040" indent="0"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ITC Franklin Gothic Std Dm Cp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ITC Franklin Gothic Std Dm Cp"/>
            </a:endParaRPr>
          </a:p>
          <a:p>
            <a:pPr lvl="2" marL="1143000" indent="-2286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 Franklin Gothic Std Bk C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TC Franklin Gothic Std Bk Cd"/>
            </a:endParaRPr>
          </a:p>
          <a:p>
            <a:pPr lvl="3" marL="1600200" indent="-22860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dobe Garamond Pro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Adobe Garamond Pro"/>
            </a:endParaRPr>
          </a:p>
          <a:p>
            <a:pPr lvl="4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 Franklin Gothic Std Med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ITC Franklin Gothic Std Med"/>
            </a:endParaRPr>
          </a:p>
          <a:p>
            <a:pPr lvl="5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 Franklin Gothic Std Med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ITC Franklin Gothic Std Med"/>
            </a:endParaRPr>
          </a:p>
          <a:p>
            <a:pPr lvl="6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 Franklin Gothic Std Med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ITC Franklin Gothic Std M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7880" y="809640"/>
            <a:ext cx="80503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Using Rubrics for Grading: 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Online Edition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68080" y="4056120"/>
            <a:ext cx="80499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Carolyn Comiske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Executive Director of Assessmen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April 22, 2020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old"/>
                <a:ea typeface="Arial Bold"/>
              </a:rPr>
              <a:t>Making Feedback Easy</a:t>
            </a:r>
            <a:endParaRPr b="0" lang="en-US" sz="32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From Danielle Stevens and Antonia J. Levi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Introduction to Rubrics. An Assessment Tool to Save Grading Time, Convey Effective Feedback and Promote Student Lear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. Stylus, 2005.</a:t>
            </a:r>
            <a:endParaRPr b="0" lang="en-US" sz="12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pic>
        <p:nvPicPr>
          <p:cNvPr id="303" name="Picture 4" descr="C:\Users\Carolyn_Comiskey\Desktop\Film presentation rubric with 2 feedback snip.jpg"/>
          <p:cNvPicPr/>
          <p:nvPr/>
        </p:nvPicPr>
        <p:blipFill>
          <a:blip r:embed="rId1"/>
          <a:stretch/>
        </p:blipFill>
        <p:spPr>
          <a:xfrm>
            <a:off x="181080" y="982800"/>
            <a:ext cx="850572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7880" y="479520"/>
            <a:ext cx="8050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Bold"/>
                <a:ea typeface="Arial Black"/>
              </a:rPr>
              <a:t>Summary: Rubrics Rule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07880" y="1240920"/>
            <a:ext cx="80503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s learning goals and instructor expectations clearer and more transparent 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s students with more timely and detailed feedback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ves faculty time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hances student learning 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Increase in transparency means that grades feel less subjective to students – fewer grading complaints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ITC Franklin Gothic Std Bk C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634680"/>
            <a:ext cx="822960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"/>
              </a:rPr>
              <a:t>References:</a:t>
            </a: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3222a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elle D. Stevens and Antonia J. Lev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Introduction to Rubrics: An Assessment Tool to Save Grading Time, Convey Effective Feedback and Promote Student 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Stylus, 2005. </a:t>
            </a:r>
            <a:endParaRPr b="0" lang="en-US" sz="18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Kenneth Wolf, Mary Connelly, and Ann Komara, “A Tale of Two Rubrics: Improving Teaching and Learning Across the Content Areas through Assessment,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Journal of Effective Tea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ol. 8, No. 1, 2008, 26.</a:t>
            </a:r>
            <a:endParaRPr b="0" lang="en-US" sz="18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J. Joesph Hoey IV and Jill L. Fergus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raming Quality Assurance in Creative Disciplines. Evidence from Pract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Common Ground Publishing, 2015.</a:t>
            </a:r>
            <a:endParaRPr b="0" lang="en-US" sz="18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Heidi Goodrich Andrade, “Teaching with Rubrics: The Good, the Bad, and the Ugly,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lege Tea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ol. 53, No. 1 (Winter, 2005), pp. 27-30.</a:t>
            </a:r>
            <a:endParaRPr b="0" lang="en-US" sz="18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2880" y="4498560"/>
            <a:ext cx="805032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70c0"/>
              </a:solidFill>
              <a:latin typeface="Arial Bold"/>
              <a:ea typeface="Arial Bold"/>
            </a:endParaRPr>
          </a:p>
        </p:txBody>
      </p:sp>
      <p:pic>
        <p:nvPicPr>
          <p:cNvPr id="283" name="Picture 3" descr="C:\Documents and Settings\comiskec\My Documents\Faculty Development\Rubrics presentation\phd020608s.gif"/>
          <p:cNvPicPr/>
          <p:nvPr/>
        </p:nvPicPr>
        <p:blipFill>
          <a:blip r:embed="rId1"/>
          <a:stretch/>
        </p:blipFill>
        <p:spPr>
          <a:xfrm>
            <a:off x="633240" y="1469880"/>
            <a:ext cx="827748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948960"/>
            <a:ext cx="778824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rubric is a scoring tool that lays out specific expectations for an assignmen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(Stevens &amp; Levi)</a:t>
            </a:r>
            <a:endParaRPr b="0" lang="en-US" sz="2600" spc="-1" strike="noStrike">
              <a:solidFill>
                <a:srgbClr val="d3222a"/>
              </a:solidFill>
              <a:latin typeface="ITC Franklin Gothic Std Dm Cp"/>
            </a:endParaRPr>
          </a:p>
          <a:p>
            <a:pPr marL="2858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rubric is a scoring tool that lists the criteria for a piece of work,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at cou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(for example, purpose, organization, details, voice, and mechanics are often what count in a piece of writing); it also articulates gradations of quality for each criterion, from excellent to poor.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Heidi Goodrich Andrade)</a:t>
            </a:r>
            <a:endParaRPr b="0" lang="en-US" sz="2600" spc="-1" strike="noStrike">
              <a:solidFill>
                <a:srgbClr val="d3222a"/>
              </a:solidFill>
              <a:latin typeface="ITC Franklin Gothic Std Dm Cp"/>
            </a:endParaRPr>
          </a:p>
          <a:p>
            <a:pPr lvl="2" marL="285840" indent="0">
              <a:lnSpc>
                <a:spcPts val="239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ITC Franklin Gothic Std Bk Cd"/>
            </a:endParaRPr>
          </a:p>
          <a:p>
            <a:pPr lvl="2" marL="285840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ITC Franklin Gothic Std Bk Cd"/>
              </a:rPr>
              <a:t>Resources link: https://drive.google.com/drive/folders/1LGTonb6J9EdRRJjJeo9dAv_rgc7C0Ur8?usp=sharing </a:t>
            </a:r>
            <a:endParaRPr b="0" lang="en-US" sz="2200" spc="-1" strike="noStrike">
              <a:solidFill>
                <a:srgbClr val="000000"/>
              </a:solidFill>
              <a:latin typeface="ITC Franklin Gothic Std Bk Cd"/>
            </a:endParaRPr>
          </a:p>
          <a:p>
            <a:pPr marL="285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d3222a"/>
              </a:solidFill>
              <a:latin typeface="ITC Franklin Gothic Std Dm Cp"/>
            </a:endParaRPr>
          </a:p>
          <a:p>
            <a:pPr marL="285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542520"/>
            <a:ext cx="80010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098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Bold"/>
                <a:ea typeface="Arial Bold"/>
              </a:rPr>
              <a:t>RUBRICS: What are they?  </a:t>
            </a:r>
            <a:endParaRPr b="0" lang="en-US" sz="28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7280" y="3981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Arial"/>
                <a:ea typeface="ITC Franklin Gothic Std Bk Cd"/>
              </a:rPr>
              <a:t>Rating Scale/Minimal Rubrics</a:t>
            </a:r>
            <a:endParaRPr b="0" lang="en-US" sz="28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97596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ITC Franklin Gothic Std Dm Cp"/>
              </a:rPr>
              <a:t>Criteria listed, with points or boxes to check for each level instead of descriptions</a:t>
            </a: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Graphic Design: Sophomore Portfolio Review Evaluation She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(excerpt from Levi/Stevens)</a:t>
            </a: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(1 is lowest, 5 is highest)</a:t>
            </a: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Composition and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5</a:t>
            </a: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Color/contrast/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5</a:t>
            </a: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Typography: type as Im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5</a:t>
            </a: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Typography: line, paragraph,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5</a:t>
            </a: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Use of Imagery (choices/skill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5</a:t>
            </a: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Content and Form Relationsh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5</a:t>
            </a: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Arial"/>
                <a:ea typeface="ITC Franklin Gothic Std Bk Cd"/>
              </a:rPr>
              <a:t>DESCRIPTIVE RUBRIC/Analytic Rubric</a:t>
            </a:r>
            <a:endParaRPr b="0" lang="en-US" sz="2800" spc="-1" strike="noStrike">
              <a:solidFill>
                <a:srgbClr val="000000"/>
              </a:solidFill>
              <a:latin typeface="ITC Franklin Gothic Std Bk C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790200"/>
            <a:ext cx="82296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 Criteria, with clear descriptions of each performance level</a:t>
            </a:r>
            <a:endParaRPr b="0" lang="en-US" sz="28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nstead of saying “paint quality is good,” describe as “Paint is generally smooth, paints are evenly mixed and colors are consistent, and edges are consistently applied and don’t bleed.”</a:t>
            </a:r>
            <a:endParaRPr b="0" lang="en-US" sz="28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 for IL223 Illustration as Visual Communication</a:t>
            </a:r>
            <a:endParaRPr b="0" lang="en-US" sz="28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f81bd"/>
                </a:solidFill>
                <a:latin typeface="ITC Franklin Gothic Std Dm Cp"/>
              </a:rPr>
              <a:t> </a:t>
            </a:r>
            <a:endParaRPr b="0" lang="en-US" sz="30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 Bold"/>
                <a:ea typeface="Arial Bold"/>
              </a:rPr>
              <a:t>HOW TO CREATE A DESCRIPTIVE RUBRIC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17900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A well-designed rubric begins with a well-designed assignment; first step is reflecting on assignment.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 and rubric are intertwined: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learning you want students to demonstrate;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 assignment that will have them demonstrate it;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reate rubric with evaluation criteria.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lvl="2" marL="332640" indent="-3326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How to Create a Rubric: Handout </a:t>
            </a:r>
            <a:r>
              <a:rPr b="0" lang="en-US" sz="2400" spc="-1" strike="noStrike">
                <a:solidFill>
                  <a:srgbClr val="000000"/>
                </a:solidFill>
                <a:latin typeface="ITC Franklin Gothic Std Bk Cd"/>
              </a:rPr>
              <a:t>https://drive.google.com/drive/folders/1LGTonb6J9EdRRJjJeo9dAv_rgc7C0Ur8?usp=sh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 Bold"/>
                <a:ea typeface="Arial Bold"/>
              </a:rPr>
              <a:t>Creating a Rubric In Blackboard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12356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culty have access to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lackboard Faculty Re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cated on your Blackboard Home page und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Organiz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ce you login to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fitnyc.open.suny.edu/  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s and Resources section includes information on creating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ITC Franklin Gothic Std Dm Cp"/>
              </a:rPr>
              <a:t>Resources in Google Folder </a:t>
            </a:r>
            <a:r>
              <a:rPr b="0" lang="en-US" sz="2800" spc="-1" strike="noStrike">
                <a:solidFill>
                  <a:srgbClr val="000000"/>
                </a:solidFill>
                <a:latin typeface="ITC Franklin Gothic Std Bk Cd"/>
              </a:rPr>
              <a:t>https://drive.google.com/drive/folders/1LGTonb6J9EdRRJjJeo9dAv_rgc7C0Ur8?usp=sha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985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 Bold"/>
                <a:ea typeface="Arial Bold"/>
              </a:rPr>
              <a:t>SUGGESTIONS</a:t>
            </a:r>
            <a:r>
              <a:rPr b="0" lang="en-US" sz="3200" spc="-1" strike="noStrike">
                <a:solidFill>
                  <a:srgbClr val="d3222a"/>
                </a:solidFill>
                <a:latin typeface="Arial Bold"/>
                <a:ea typeface="Arial Bold"/>
              </a:rPr>
              <a:t>	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9428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Provide to students when assignment is given out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Consider having students create rubrics with you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Consider having students use rubrics for self- and peer- assessment and then allowing them to review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296" name="Content Placeholder 3" descr="http://www.wisepedagogy.com/blog/wp-content/uploads/2009/05/rubrics-the-secret-to-grading.png"/>
          <p:cNvPicPr/>
          <p:nvPr/>
        </p:nvPicPr>
        <p:blipFill>
          <a:blip r:embed="rId1"/>
          <a:srcRect l="-7584" t="0" r="-7584" b="0"/>
          <a:stretch/>
        </p:blipFill>
        <p:spPr>
          <a:xfrm>
            <a:off x="351000" y="2809800"/>
            <a:ext cx="92487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6840" y="501480"/>
            <a:ext cx="80010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098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Bold"/>
                <a:ea typeface="ITC Franklin Gothic Std Dm Cp"/>
              </a:rPr>
              <a:t>Providing individualized feedback: Paper Rubrics</a:t>
            </a:r>
            <a:endParaRPr b="0" lang="en-US" sz="28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75960" y="6323040"/>
            <a:ext cx="748188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d3222a"/>
              </a:solidFill>
              <a:latin typeface="ITC Franklin Gothic Std Dm Cp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6840" y="1342800"/>
            <a:ext cx="80010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Individualized comments can be provided in box on side of each row and/or in a  box or space at the bottom of the rubric!</a:t>
            </a:r>
            <a:endParaRPr b="0" lang="en-US" sz="2400" spc="-1" strike="noStrike">
              <a:solidFill>
                <a:srgbClr val="d3222a"/>
              </a:solidFill>
              <a:latin typeface="ITC Franklin Gothic Std Dm Cp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FIT’s Writing Studio rubric example (first 2 rows)</a:t>
            </a:r>
            <a:endParaRPr b="0" lang="en-US" sz="2400" spc="-1" strike="noStrike">
              <a:solidFill>
                <a:srgbClr val="d3222a"/>
              </a:solidFill>
              <a:latin typeface="ITC Franklin Gothic Std Dm Cp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d3222a"/>
              </a:solidFill>
              <a:latin typeface="ITC Franklin Gothic Std Dm Cp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d3222a"/>
              </a:solidFill>
              <a:latin typeface="ITC Franklin Gothic Std Dm Cp"/>
            </a:endParaRPr>
          </a:p>
        </p:txBody>
      </p:sp>
      <p:pic>
        <p:nvPicPr>
          <p:cNvPr id="300" name="Picture 1" descr="Screen Shot 2020-04-21 at 1.03.44 PM.png"/>
          <p:cNvPicPr/>
          <p:nvPr/>
        </p:nvPicPr>
        <p:blipFill>
          <a:blip r:embed="rId1"/>
          <a:stretch/>
        </p:blipFill>
        <p:spPr>
          <a:xfrm>
            <a:off x="41400" y="3174840"/>
            <a:ext cx="918180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20:50:59Z</dcterms:created>
  <dc:creator>DIANA GAZZIA</dc:creator>
  <dc:description/>
  <dc:language>en-US</dc:language>
  <cp:lastModifiedBy>Lee Behlman</cp:lastModifiedBy>
  <cp:lastPrinted>2018-02-13T14:05:53Z</cp:lastPrinted>
  <dcterms:modified xsi:type="dcterms:W3CDTF">2020-04-21T17:08:53Z</dcterms:modified>
  <cp:revision>162</cp:revision>
  <dc:subject/>
  <dc:title>Slide 1</dc:title>
</cp:coreProperties>
</file>